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F507-4692-411C-8CE6-20A239A217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D7F6-58E0-4143-B0B5-3A1A3028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1F61-B1E2-4719-B238-4527F87B07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E1D5-3AC5-47E1-BFC4-F863F0D4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2363-D60A-42F5-A833-04D41F989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CB87-E674-4A8A-B164-40349674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8D16-ED09-4216-BA3C-B47E75557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08EDB-BB7A-49F7-8A68-C6369C977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5E25-B406-4C9E-AF59-A3CC77998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12976-9052-4C72-A720-A085C17FC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77893-9FB3-4CF9-81C3-828439E1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D6D2-B213-469F-BDB7-6E5A637CD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D7621-B910-4DF1-AC89-CE5104E25F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olution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evolution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object goes around another ob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bit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h of rev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revolution = 1 year = 365.25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ap-year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ccur every four years; an extra day is added to the calendar (Feb 2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arth REVOLVES around the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summer, the northern hemisphere is farthest from the su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6838920" cy="3017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earth-tilt"/>
          <p:cNvPicPr/>
          <p:nvPr/>
        </p:nvPicPr>
        <p:blipFill>
          <a:blip r:embed="rId1"/>
          <a:srcRect l="2351" t="0" r="0" b="0"/>
          <a:stretch/>
        </p:blipFill>
        <p:spPr>
          <a:xfrm>
            <a:off x="0" y="0"/>
            <a:ext cx="6324480" cy="51436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3" descr=""/>
          <p:cNvPicPr/>
          <p:nvPr/>
        </p:nvPicPr>
        <p:blipFill>
          <a:blip r:embed="rId2"/>
          <a:srcRect l="1812" t="7181" r="4983" b="10582"/>
          <a:stretch/>
        </p:blipFill>
        <p:spPr>
          <a:xfrm>
            <a:off x="4495680" y="4114800"/>
            <a:ext cx="4496040" cy="2743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1T18:11:56Z</dcterms:created>
  <dc:creator>skrial</dc:creator>
  <dc:description/>
  <dc:language>en-US</dc:language>
  <cp:lastModifiedBy>Sherry Miers</cp:lastModifiedBy>
  <dcterms:modified xsi:type="dcterms:W3CDTF">2010-09-19T22:48:52Z</dcterms:modified>
  <cp:revision>5</cp:revision>
  <dc:subject/>
  <dc:title>Revolution Notes 10/2</dc:title>
</cp:coreProperties>
</file>